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72640" y="736560"/>
            <a:ext cx="491508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7400" y="4668480"/>
            <a:ext cx="4888080" cy="442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0ADCA20-06FA-4530-9B8D-59EF556E8C0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DF33AA3-9C0D-4224-B161-D6616AE7170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CE5E648-3285-4EEC-A869-91BD25C494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498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8320" y="2349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498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8320" y="4498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83640" y="2349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1280" y="2349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498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83640" y="4498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1280" y="4498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8320" y="2349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11280" y="12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8320" y="2349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498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8320" y="2349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8320" y="4498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8320" y="2349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498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-1440" y="0"/>
          <a:ext cx="1047600" cy="10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0" y="0"/>
                    <a:ext cx="104760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116000" y="0"/>
            <a:ext cx="3384720" cy="10317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0" y="1052280"/>
            <a:ext cx="914400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3348000" y="0"/>
            <a:ext cx="579600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848720" cy="4614840"/>
          </a:xfrm>
          <a:prstGeom prst="rect">
            <a:avLst/>
          </a:prstGeom>
          <a:noFill/>
          <a:ln w="507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rebuchet MS"/>
              </a:rPr>
              <a:t>Partecipazione e processi decisionali.</a:t>
            </a:r>
            <a:br>
              <a:rPr sz="3600"/>
            </a:br>
            <a:br>
              <a:rPr sz="3600"/>
            </a:br>
            <a:r>
              <a:rPr b="1" lang="it-IT" sz="2800" spc="-1" strike="noStrike">
                <a:solidFill>
                  <a:srgbClr val="3333cc"/>
                </a:solidFill>
                <a:latin typeface="Trebuchet MS"/>
              </a:rPr>
              <a:t>La legge regionale della Toscana sulla partecipazione: principi, finalità, contenuti.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ff3300"/>
                </a:solidFill>
                <a:latin typeface="Trebuchet MS"/>
              </a:rPr>
              <a:t>Dalla legge 69 del 2007 alla legge 46 del 2013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3333cc"/>
                </a:solidFill>
                <a:latin typeface="Trebuchet MS"/>
              </a:rPr>
              <a:t>Antonio Floridia</a:t>
            </a:r>
            <a:br>
              <a:rPr sz="3200"/>
            </a:br>
            <a:r>
              <a:rPr b="1" lang="it-IT" sz="2000" spc="-1" strike="noStrike">
                <a:solidFill>
                  <a:srgbClr val="3333cc"/>
                </a:solidFill>
                <a:latin typeface="Trebuchet MS"/>
              </a:rPr>
              <a:t>Responsabile del Settore “politiche per la partecipazione”</a:t>
            </a:r>
            <a:br>
              <a:rPr sz="2000"/>
            </a:br>
            <a:r>
              <a:rPr b="1" lang="it-IT" sz="2000" spc="-1" strike="noStrike">
                <a:solidFill>
                  <a:srgbClr val="3333cc"/>
                </a:solidFill>
                <a:latin typeface="Trebuchet MS"/>
              </a:rPr>
              <a:t>Giunta Regionale della Tosc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354400"/>
            <a:ext cx="7704000" cy="2958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La legge si articola intorno a due as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Il “Dibattito Pubblico” reg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Il sostegno ai processi partecipativi loc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842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battito Pubblico Regional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è definito (art. 7, c. 1) 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processo di informazione, confronto pubblico e partecipazione su opere, progetti o interventi che assumono una particolare rilevanza per la comunità regionale, in materia ambientale, territoriale, paesaggistica, sociale, culturale ed economic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a legge 46/2013 (in ciò innovando rispetto alla 69/2007) stabilisce, a certe condizioni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’obbligatoriet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dell’apertura di una procedura di “Dibattito Pubbli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5192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golamentazione del dibattito Pubblico preve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a classificazione delle op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e sono oggetto di DP e una diversa procedura: in particola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l Dibattito Pubblico è obbligator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tutte le ope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bli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he superano la soglia d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nquanta  milio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 eu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tutte le ope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ivat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e superano la suddetta soglia finanziaria, il Dibattito Pubblico è attivato previa valutazione dell’Autorità regionale, acquisendo la collaborazione del soggetto promotore e la sua disponibilità a concorrere finanziariamente alla realizzazione del Dibattito st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l Dibattito Pubblico è obbligatorio per 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vision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localizzazi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contenute in piani regionali, in relazione  ad opere pubbliche nazion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tutte le oper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ubbliche e priv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erano la soglia di cinquanta milioni di euro ma so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p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 un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glia minim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dieci  milio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 euro, l’Autorità, di propria iniziativa o su richiesta di altri soggetti, valuta l’opportunità di attivare un Dibattito pubblic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le opere pubblic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ulle quali la Regione è chiamata ad esprimersi, l’Autorità può promuovere forme di dibattito pubblico, nei limiti compatibili con il rispetto dei tempi e delle procedure previste dalla legge sta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839520"/>
            <a:ext cx="8715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Il sostegno ai processi partecipativi lo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La legge prevede che un ente locale, ma anche un gruppo di cittadini, un istituto scolastico, un’associazione o anche un’impresa, possano presentare un progetto di processo partecipativ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torno ad un oggetto ben definito e circoscritt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ella durata massima di sei mesi (salvo proroghe o eccezioni motivate)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dicando i metodi e gli strumenti più ada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petta all’Autorità regionale la valutazione e l’ammissione dei progetti presentati, sulla base di una serie di condizioni e requisiti che la legge indica. L’ente competente in materia, dichiara, all’inizio del processo, di impegnarsi a “tener conto” dell’esito del processo partecipativo o, in ogni caso, a motivare adeguatamente e pubblicamente le ragioni di un mancato o parziale accoglimento dei risulta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652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1413000"/>
            <a:ext cx="7201080" cy="7920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31840" y="1935000"/>
            <a:ext cx="599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1413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RUOLO DELL’AUTORITÀ REGIONALE PER LA PARTECIP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2421000"/>
            <a:ext cx="7201080" cy="395928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249228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’Autorità è un organo collegiale composto da tre memb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celti tra persone di comprovata esperienza nelle metodologie e nelle pratiche partecipative” (art. 3, c. 2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ue nominati dal Consiglio Regionale e uno nominato dalla Giunta Re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04000" cy="10080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7960" y="1558800"/>
            <a:ext cx="41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DIBATTITO PUBBLIC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141720"/>
            <a:ext cx="86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Il Capo II della legge (articoli 7-12) è dedicato  alla regolamentazione del Dibattito Pubb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717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La legge prefigura un modello che si ispira, a grandi linee, al modello  del</a:t>
            </a:r>
            <a:r>
              <a:rPr b="1" i="1" lang="it-IT" sz="2800" spc="-1" strike="noStrike">
                <a:solidFill>
                  <a:srgbClr val="000000"/>
                </a:solidFill>
                <a:latin typeface="Trebuchet MS"/>
              </a:rPr>
              <a:t> Débat Public</a:t>
            </a:r>
            <a:r>
              <a:rPr b="1" lang="it-IT" sz="2800" spc="-1" strike="noStrike">
                <a:solidFill>
                  <a:srgbClr val="000000"/>
                </a:solidFill>
                <a:latin typeface="Trebuchet MS"/>
              </a:rPr>
              <a:t> presente nella legislazione franc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341360"/>
            <a:ext cx="8064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08908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’articolo 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pecifica “interventi, progetti e opere” che possono essere oggetto di “DP”, secondo la classificazione e le soglie prima ricorda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legge prevede una serie di soggetti possano presentare all’Autorità una “richiesta motivata” di apertura del DP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unta region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glio region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i locali, anche in forma associata, territorialmente interessati alla realizzazione delle ope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ggetti che contribuiscono a diverso titolo alla realizzazione delle ope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8908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eno lo 0,1 per cento dei residenti che hanno compiuto sedici anni, anche organizzati in associazioni e comit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7336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L’articolo 9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coordina il DP e le procedure di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L’articolo 10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stabilisce le procedure di attivazione del DP, da parte dell’Autorità, dopo una fase istruttoria. sulla base della documentazione fornita dai promotori delle opere. In particolare, l’Autorità “promuove e coordina il DP sulla base della documentazione acquisita, quando la valuti sufficiente a chiarire”, di fronte all’opinione pubblica, “i termini della discussione pubblic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268280"/>
            <a:ext cx="849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articolo 11 stabilisce le modalità di indizione e di svolgimento del DP; in particolare l’Autorità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sce le modalità e gli strumenti del dibattito, in modo da assicurare il massimo coinvolgimento, garantire l’imparzialità della conduzione, uguaglianza e inclusione nell’espressione di tutte le posizion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sce le fasi e la durata del dibattito, non superiore a novanta giorni, salvo proroga motivata di un solo mese. Tale durata decorre a partire dalla conclusione della fase istruttoria, che a sua volta non può essere superiore a novanta giorn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ina il responsabile del Dibattito Pubblico, “individuandolo fra soggetti esperti nelle metodologie e nelle pratiche partecipative, secondo procedure ad evidenza pubblica”. L’Autorità si riserva la possibilità che sia essa stessa a gestire un D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04000" cy="86508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38400" y="1558800"/>
            <a:ext cx="66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SOSTEGNO REGIONALE AI PROCESSI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ECIP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328464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soggetti titolari del dirit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presenta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art. 13) un progetto partecipativo, e a richiedere il relativo sostegno regionale, son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gruppo di cittadini, in numero definito da soglie demografich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ociazion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ti Local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tituti scolastic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27280" y="5877000"/>
            <a:ext cx="3024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2852640"/>
            <a:ext cx="4248360" cy="28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781360"/>
            <a:ext cx="3816360" cy="295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3840" y="15526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ERCHE’ UNA “LEGGE” sulla partecipazio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3120" y="20383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ue opposte obiezioni 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781360"/>
            <a:ext cx="3897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a partecip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“spontaneità” socia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movimento auton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della società civi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non può essere “regolat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“legge” rischia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rrigimentare” la partecipazio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di “depotenziare” il confli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626920" y="2421000"/>
            <a:ext cx="57636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2800" y="2901960"/>
            <a:ext cx="387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 gente chiede “decis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ggi è già così diffic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idere”… i cittadini han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e e opinioni disparate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addittorie … se si dove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r retta a tutti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 partecipazione rischia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 far perdere temp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2421000"/>
            <a:ext cx="431640" cy="287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45280" y="592596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QUALI RISPOST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04000" cy="57636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it-IT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55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ZIONI E CRITERI DI AM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997360"/>
            <a:ext cx="813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li articoli 14 e 17 entrano nel merito delle procedure previste, in particolare, per quanto riguar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requisiti di ammissione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dei progetti presentati (art.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criteri di priorità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con cui l’Autorità dovrà valutarli (art. 17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04000" cy="8636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it-IT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341360"/>
            <a:ext cx="75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ZIONI PER L’AMMISSIONE DEI PROGETTI PARTECIP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997360"/>
            <a:ext cx="8715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’Autorità ammette i progetti partecipativi 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bian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 oggetto specifico e ben de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vedan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mpi certi e ben definit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i svolgimento, con durata massima complessiva di sei mesi, salvo motivate possibilità di prolungamento, concesso dall’Autorità, per non oltre tre mes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chi gl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stituti, le metodologie e gli strument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he si ritengono più congrui all’oggetto e alle finalità del prog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rantisc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dalità di gestio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l processo partecipativo, tali da assicura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utralità e imparzialit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609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04000" cy="8636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it-IT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15573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ZIONI PER L’AMMISSIONE DEI PROGETTI PARTECIP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278136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icuri l’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clusività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elle procedure, con particolare attenzione alle condizioni di svolgimento che assicurino la piena parità di espressione di tutti i punti di vista e interessi coinvolti nell’oggetto della discussione e condizioni di uguaglianza nell’accesso ai luoghi e ai momenti del dibatt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ssicuri l’effettiva inclusione di gruppi sociali e culturali dive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dichi la fase del processo decisionale, nelle sedi istituzionali competenti,         relativo all’oggetto del processo partecip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reveda azioni specifiche per la diffusione e l’accessibilità di tutte le informazioni rilevanti ai fini del percorso partecipativo, in tutte le sue f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resenti una previsione di massima dei costi del progetto partecipativo propo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dichi la persona fisica responsabile delle procedure amminist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04000" cy="8636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it-IT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5573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ZIONI PER L’AMMISSIONE DEI PROGETTI PARTECIP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2997360"/>
            <a:ext cx="8715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precisano poi le condizioni ulteriori da considerare nei casi di progetti presentati da associazioni e residenti, istituti scolastici e imprese; ovvero, in particolare, che tali progetti prevedano la disponibilità di risorse proprie, anche solo di natura organizzativa, da parte dei propon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 specificano poi le condizioni ulteriori da considerare nei casi di progetti presentati dagli enti locali; in particolare che tali progetti contengano una dichiarazione dell’ente competente con la quale esso “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i impegna a tener conto dei risultati del processo partecipativo o comunque a motivarne il mancato o parziale accoglimen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’ richiesta, inoltre, l’adesione preventiva al Protocollo di intesa Regione-Enti loca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04000" cy="5749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it-IT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341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RITERI DI PRIORIT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421000"/>
            <a:ext cx="86421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 quanto riguard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 criteri di priorit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art. 16), l’Autorità tiene conto dei seguenti elemen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involgimento di soggetti deboli, svantaggiati o diversamente abil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pologia del territorio interessato, con preferenza verso quelli che presentino “particolari motivi di disagio sociale o territorial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 casi in cui oggetto del progetto partecipativo sia un’opera pubblica, la valutazione dell’ampiezza del suo possibile impatto sul paesaggio e sull’amb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 rispetto dei principi di promozione di genere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9080" y="6381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04000" cy="57636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it-IT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55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RITERI DI PRIOR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637000"/>
            <a:ext cx="856764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sentano un migliore rapporto tra i costi complessivi del progetto e le risorse propr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ottano forme innovative di comunicazione e interazione con gli abitanti e tra i partecip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no sostenuti da un numero consistente di richiedenti, oltre la soglia minima richies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04000" cy="57636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it-IT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5573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RITERI DI PRIOR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781360"/>
            <a:ext cx="86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 sono poi ulteriori criteri di priorità nei casi di progetti degli enti loca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particolare, vanno considerati prioritari i progetti 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propongano di dare regolarità, stabilità e trasparenza ai processi partecipativi  nelle pratiche dell’ente local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biano una dimensione integrata e intersettorial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gano presentati in forma associata da parte di più enti local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ilizzino la Rete Telematica della Regione Toscan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ndano disponibile in via telematica tutta la documentazione 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frano forme di comunicazione gratuita e periodica, anche in via telematica e interattiva, sul processo partecipativo in co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492280"/>
            <a:ext cx="763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l Protocollo di intes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è uno strumento di cooperazione inter-istituzi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 sottoscrizione del Protocollo comporta per gli enti aderenti la condivisione dei principi della presente legge, l’accettazione volontaria delle procedure in essa previste, la sospensione dell’adozione o dell’attuazione degli atti amministrativi di propria competenza la cui adozione o attuazione può prefigurare una decisione che anticipi o pregiudichi l’esito del dibattito pubblic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l Protocollo può prevedere forme di sostegno regionale anche al di fuori di processi specifici di partecipazione ammessi al sostegno regionale, perciò che concerne logistica, tecnologie dell’informazione e formazione professionale, privilegiando quegli enti che danno stabilità alle pratiche partecipativ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357720"/>
            <a:ext cx="257040" cy="198360"/>
          </a:xfrm>
          <a:prstGeom prst="rightArrow">
            <a:avLst>
              <a:gd name="adj1" fmla="val 50000"/>
              <a:gd name="adj2" fmla="val 3239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5229360"/>
            <a:ext cx="257040" cy="198360"/>
          </a:xfrm>
          <a:prstGeom prst="rightArrow">
            <a:avLst>
              <a:gd name="adj1" fmla="val 50000"/>
              <a:gd name="adj2" fmla="val 3239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PROTOCOLLO D’INT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GIONE-ENTI LOC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04000" cy="8636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1268280"/>
            <a:ext cx="7704000" cy="8636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60600" y="1484280"/>
            <a:ext cx="8082720" cy="192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“scommessa” della legge regionale tosc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odello di connessione tra partecipazion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e: la partecipazion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e fas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 un 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ale, non com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l luog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le deci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4005360"/>
            <a:ext cx="37065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Verdana"/>
              </a:rPr>
              <a:t>Un modello “esigente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Verdana"/>
              </a:rPr>
              <a:t>sia per i “cittadini”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Verdana"/>
              </a:rPr>
              <a:t>sia per le istituzioni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3429000"/>
            <a:ext cx="446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erie di “illusioni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illusione “moviment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illusione “decisio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illusione “tecnocrat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2720" y="6165720"/>
            <a:ext cx="6083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a è stata vinta questa scommes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95600" y="1268280"/>
            <a:ext cx="27655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QUALI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POS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76640"/>
            <a:ext cx="8953560" cy="411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i fronte a queste obiezioni, la via scelta è stata quella di proporre una legge che fosse, essenzialmente, </a:t>
            </a:r>
            <a:r>
              <a:rPr b="1" i="1" lang="en-US" sz="2200" spc="-1" strike="noStrike">
                <a:solidFill>
                  <a:srgbClr val="000000"/>
                </a:solidFill>
                <a:latin typeface="Trebuchet MS"/>
              </a:rPr>
              <a:t>uno strumento di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rebuchet MS"/>
              </a:rPr>
              <a:t>incentivazione istituzional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, teso a favorire la diffusione e la sperimentazione di nuove pratiche partecipat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a legge toscana, dunque, non “impone” la “partecipazione”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non appesantisce con ulteriori norme e procedure processi decisionali che, già in sé, si presentano spesso complessi e faticosi. Non “prescrive” una “partecipazione”, quale che essa sia, ma offre un supporto ai soggetti sociali e ai governi locali che vogliano misurarsi con la costruzione di processi decisionali innovativ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’ questa la premessa fondamentale per comprendere lo “spirito” di questa leg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136000" cy="8636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it-IT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492280"/>
            <a:ext cx="8129520" cy="39625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it-IT" sz="1400" spc="-1" strike="noStrike">
                <a:solidFill>
                  <a:srgbClr val="3333cc"/>
                </a:solidFill>
                <a:latin typeface="Trebuchet MS"/>
              </a:rPr>
              <a:t>  </a:t>
            </a:r>
            <a:br>
              <a:rPr sz="1400"/>
            </a:br>
            <a:r>
              <a:rPr b="1" lang="it-IT" sz="1400" spc="-1" strike="noStrike">
                <a:solidFill>
                  <a:srgbClr val="3333cc"/>
                </a:solidFill>
                <a:latin typeface="Trebuchet MS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3333cc"/>
                </a:solidFill>
                <a:latin typeface="Trebuchet MS"/>
              </a:rPr>
              <a:t> </a:t>
            </a:r>
            <a:r>
              <a:rPr b="1" lang="it-IT" sz="1400" spc="-1" strike="noStrike">
                <a:solidFill>
                  <a:srgbClr val="ff3300"/>
                </a:solidFill>
                <a:latin typeface="Trebuchet MS"/>
              </a:rPr>
              <a:t> 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24922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I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L CONCETTO E LE PRATICHE D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EMOCRAZIA 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DELIBERATIVA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8600" y="1413000"/>
            <a:ext cx="81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’ISPIRAZIONE POLITICO-CULTU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LLA LEG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500280"/>
            <a:ext cx="820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Un insieme di metodi e di tecniche di partecipazione che si fondano su un princip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costruire, intorno ad un problema collettivo e alla ricerca delle sue possibili soluzioni, luoghi e momenti per una discussione razionale, argomentata, organizzata secondo regole condivise, inclusiva (che veda cioè la più ampia partecipazione possibile di tutti i punti di vista coinvolti), entro tempi rigorosamente prestabiliti, sulla base di una informazione e di una documentazione ampia, trasparente e parit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078440"/>
            <a:ext cx="62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496000" cy="158436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it-IT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068640"/>
            <a:ext cx="8496000" cy="33145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it-IT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2700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N POSSIBILE EQUIVO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DEMOCRAZIA DELIBERATIVA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MPLICA ALCUNA “CESSIONE DI SOVRAN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” O “DELEGA DI POTER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1417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TEMA CRUCIALE: CHI, COME E COSA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legittimità delle istituzioni della democrazia rappresentativa, e la piena titolarità delle loro decisioni, non sono messe in discussione. Un processo deliberativo efficace mira ad ARRICCHIRE la qualità delle decisioni, a renderle più “legittime”, più condivise, più solide nelle loro basi informative e cogni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28600" y="4383000"/>
            <a:ext cx="7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00720" y="4149720"/>
            <a:ext cx="4103640" cy="2521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4221000"/>
            <a:ext cx="3745080" cy="24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676520"/>
            <a:ext cx="63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3657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FINALITA’ “EDUCATIVE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migliora le qualità morali e intellettuali dei cittad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permette indagini e processi di apprendimento collettivo (Dew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la forza civilizzatrice dell’ipocrisia” (El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560" y="1268280"/>
            <a:ext cx="71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 TRAGUARDI O GLI ESITI DELLA DELIB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5631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alcuni autori, come Habermas e Rawls, adottano una concezione ‘esigente’ del consenso razionale tra i partecipanti: la deliberazione è in grado di generare un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</a:rPr>
              <a:t>consenso sulle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rebuchet MS"/>
              </a:rPr>
              <a:t>ragioni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</a:rPr>
              <a:t> di una scelta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. Altri sostengono concezioni meno esigenti, in quanto ritengono che spesso la profondità delle divergenze sui fatti o i valori in gioco sia tale che ci si può attendere al massim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</a:rPr>
              <a:t>un consenso 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Trebuchet MS"/>
              </a:rPr>
              <a:t>motivato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rebuchet MS"/>
              </a:rPr>
              <a:t> sulla preferibilità di una scelta</a:t>
            </a: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, rimanendo distinte le ragioni di tale consenso” (Pellizzoni,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4520" y="357336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 FINALITA’ (O LE “VIRTU’) DELLA DELIB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6360" y="4294080"/>
            <a:ext cx="392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NALITA’ POLI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duce decisioni più “giust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mette decisioni dotate di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n più largo consen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ermette soluzioni più “creativ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a emergere le vere rag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 un conflitto e permet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 renderlo “produttivo”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21337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TRUTTURA, CONTENUTI E FINALITA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La legge del 2007 e la legge del 2013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ontinuità e innov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2744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rticolo 1, comma 2: gli obiettiv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ione con la  presente legge persegue gli obiettivi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ire a rafforzare e a rinnovare la democrazia e le sue istituzioni, integrando la loro azione con pratiche, processi e strumenti di democrazia partecipativ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promuovere la partecipazione come forma ordinaria di amministrazione e di governo della Regione in tutti i settori e a tutti i livelli amministrativ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rafforzare, attraverso la partecipazione degli abitanti, la capacità di costruzione, definizione ed elaborazione delle politiche pubblich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25360"/>
            <a:ext cx="871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) contribuire ad una più elevata coesione sociale, attraverso la diffusione della cultura della partecipazione e la valorizzazione di tutte le forme di impegno civico, dei saperi e delle competenze diffuse nella società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) valorizzare e diffondere le nuove tecnologie dell’informazione e della comunicazione come strumenti al servizio della partecipazione democratica dei cittadin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) contribuire alla parità di gener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) favorire l'inclusione dei soggetti deboli e l'emersione di interessi diffusi o scarsamente rappresentat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) valorizzare le migliori esperienze di partecipazione, promuovendone la conoscenza e la diffu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9:00:59Z</dcterms:created>
  <dc:creator>sciclone</dc:creator>
  <dc:description/>
  <dc:language>en-US</dc:language>
  <cp:lastModifiedBy>GIORGIO</cp:lastModifiedBy>
  <cp:lastPrinted>2004-02-23T16:26:32Z</cp:lastPrinted>
  <dcterms:modified xsi:type="dcterms:W3CDTF">2014-04-18T18:11:30Z</dcterms:modified>
  <cp:revision>403</cp:revision>
  <dc:subject/>
  <dc:title>INDAGINE SULLE CONDIZIONI DI VITA DELLE FAMIGLIE TOSCANE (ICVFT) </dc:title>
</cp:coreProperties>
</file>